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38F-9CA2-4E54-BD7D-03BE856C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A3A4-1757-4F00-9964-7BE76D9A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85A67-4C7D-409F-8FD5-74E30371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4E013-FEAA-4293-B6E1-D3E3C012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F1A15-E6D9-4667-9208-8626B545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C7E69-1A0B-4543-9F16-938A6E4A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4DA6F-2FC3-42E9-A00C-D402FA23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64D62-2BE0-41D0-8B89-C5710083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B6886-D78F-4196-B096-6964A127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09C3F-5F66-4863-AD3F-452B05F2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65770-AD88-4379-817D-C992015E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082E1-2F08-4679-9773-46542BAB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6137-3903-4378-B8AE-7022DE8D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8447E-9710-462A-B6FF-7ECDCCFB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281AB-6273-423E-8108-73E7AFF7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16B9D-673B-44B4-91A8-71753C56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C14C8-D51A-45BD-814F-B226D1D6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7A269-13B0-4D8B-AA8C-38C4E3CC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9D942-D669-48EC-A8BB-0A1BB33B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70814-A616-4EE8-A2A3-99BDC1FF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157D6-EE5E-4001-86BC-FC862B5C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DF85E-6862-49BB-96BF-ADDB2041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7F93B-F42D-4BC2-B949-653CCA2B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D14-9C64-40C6-8C63-33511D87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5F044-5660-4B5D-963C-2000368C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5D0DF-6B01-4CDD-B331-0D9CEC11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3376D-2271-4378-B856-743F4CCF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3AACD-3BFA-4E62-B97D-9C7A85E5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CEAD4-4E74-4894-A57C-44B22976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3C381-F002-40B4-B093-8DD689D0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EB151-CE7F-4080-9AD5-F1ADEFFC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38846-A002-4541-B105-1B41AAE4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97A51-65C4-4E79-A0C7-B5D825AC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D2373-A47A-4E56-8C2A-A0D739AA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5445-7994-46F0-9E44-9FCDF4A4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E3976-C801-4901-8A07-070713B6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7D473-0AE3-4C2B-9B6C-883A4738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169BD-3918-4496-8167-D54C60D8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AFC5E-ACA1-409E-97F2-B8F507A2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BB032-65D4-4439-B389-AE746D44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F03E1-EE0F-402A-8B93-2BB9B873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51526-7747-4C28-AAFE-5F0F599D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B3510-1857-43C0-AEFD-FD6A09FE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E418F-5E57-4E2F-8760-EB694FB6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3C171-1F80-4491-B8E8-8CE29563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67B9-EF7A-45E2-BE36-BBF02AE1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53803-E6B6-4229-AF6E-66F2B144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90A80-7667-41BF-87C9-E3481D9B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79C61-4437-4457-AAF0-A192BA78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6C039-DD32-43F0-B802-50AA101E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57DA6-1E2E-4B79-A082-8013CAB4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56A4-9E79-4EA9-83B6-74A1D1BD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CE7B-5BEB-4B5F-B11B-2A9B30A6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1798-EE4F-417D-8CE5-D736DA1D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05E2-F078-4D28-B59D-5BF357CC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EC4B-9C05-403F-8A1F-4A8039AF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9F70-C943-443A-9E82-775A7AE5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4A54-DF19-4CC3-BB7C-4806B360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3968-B308-4170-8630-FB9C24D0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C33D-74F4-448C-A825-9534EB00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32E5-9ADB-453B-A0B7-61F072E6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234C-B0E7-4D2A-A46C-27087DF7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04E96-26EE-44FF-8E50-F85DF1F1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79AAA-4529-4594-9FFF-66C27BA8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C50EF-B5FA-4C19-86A3-0339B4C2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76C44-9C92-4170-B341-5924A14C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181A5-27BF-4964-9B67-9FC50781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2EE-9CFD-4711-B5AB-78FCA429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F44CA-CC47-42BF-9916-D9B0B7E3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35976-45FA-46E5-9A7F-83729638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4AE41-7A9F-441E-83AE-390E3D56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BDE3F-3C84-4BC5-8F1E-76B12474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75878-A008-4EDA-86D8-84A820A8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3ED99-E3FE-40B2-9E8B-2431912E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B57C8-C301-4D05-AE8F-5424DEA0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61D61-ABFA-49BA-AAD8-8136251F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D3C72-C0E6-4817-8FA4-68B0AF96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053D1-2C92-4F39-9F6C-D34D03E8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C07A-D5D8-43D5-BD86-01E8088E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FACCF-3B8E-47DD-AA62-B94EC7BF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BD549-E382-4F99-B716-69D7456E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8F83B-22AE-4701-93D8-17A37F85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88AC3-B6F6-45D6-9D0F-071E4C15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FBA88-FECC-4A4E-ACFE-2A044181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16678-9CA0-4524-BE37-7EC79730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22EE4-A24F-44E9-B01B-05E28A4D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3D6E1-A141-4FBE-A6A0-50984036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B27DF-8F4A-4B04-B42E-7CD0013E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88BC9-13B2-4D4B-950B-FE72CEFB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BBB5-E773-4E70-816D-974C78BC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7E52F-8D30-401E-9D0E-947046D9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B195C-1486-4C14-8BAD-6C9C7DA4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B61A6-F8BC-491A-9360-2F803CD5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9EEEE-15AB-40E9-9F2D-AFCADCBF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79E7A-3D78-4780-8928-8BA08A47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3A5F9-B4E6-42D3-83AD-0DCF4D02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CD61B-0333-459C-9EFE-65C7424C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A2280-88F8-48D2-B37D-EFAD1380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85924-E4F2-4437-BE31-03EDC960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B32CF-85F1-429E-B766-ADC03FFE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010-ADCD-4441-94F5-EEAE7175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4EA0D-85F4-494F-A3EF-719F8EE9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7650C-7972-4456-9F12-B649DF4E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F41AA-8AD0-4E1F-A5F3-D6B5D365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6BAB8-0E47-4369-BDCF-F768F450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9DFFE-2AC5-4BB2-84E8-D8B4F4C0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47DDF-9D01-4EC0-9CE4-9006D66A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BCFF2-8C8C-4B12-A961-5C84059D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B8249-4A1E-4FF1-855E-B7549A92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0C8A3-09BF-4741-BA26-2C7AD9B0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B4324-2152-4764-AAAB-E4BE65ED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FF5E-14A7-452C-B9CD-6EEA4ED5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1FC6F-D271-4830-BD3A-041224E1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CEC5F-A4AC-4B04-BE3B-BF8D24B0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E7F1D-81D3-4F36-B6E0-B4294C1C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7ABCD-DCAA-4D4E-8CC9-348ADC4B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7BEA6-ACB6-4768-A5FD-8ED39472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24BAC-785A-4D8C-8E9F-AAD640AB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DA8D9-2613-4F52-9587-8471200E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A74B1-3065-43AA-BCDB-ABC13FDC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AF5B5-2F08-45D2-A730-2CAA14F5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7C259-9CE6-498B-A9CE-6D72807E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9EB-5BD3-42B8-8194-D8B6E6CD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D5945-0C51-49DB-A67F-BC941F8B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BDF96-EF19-459D-B9BB-A916BCDF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D8457-9CA5-4359-A337-2730EDFB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51535-7452-49A8-8C32-E32D6E0C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8C181-881C-4D08-A7CB-B209F0FD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F6080-B42B-486B-9D76-DA244763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94431-87CE-422C-9704-55E1AF39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6C1D7-B958-406E-B283-0D68B950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14C8C-3B4B-42AC-BF90-0345DE10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899A0-F352-4360-9CE3-EB4989CE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55B3-20FA-4018-935F-4EBC7696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2461F-7E60-445A-9DAF-209397EA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44817-A0FB-479A-8C0A-C1F98DA6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D077A-CE53-45B5-AD95-918C37C3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78CB2-3E03-44F4-91E7-9416245E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6FD41-F8E5-4262-B29C-3C9B55EB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908F4-D15F-470F-9A08-2633079C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6E0E3-81D8-46A2-AE65-2DADF1EB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19EF8-3D40-4E08-8B29-556AB308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9D363-4643-49EB-A36D-D35E8091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DA114-0D7A-490E-A668-A9E72171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6258-9CED-4169-A63E-DE3A2B5C42A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7E2C-D9D4-4DC8-A9F4-6ACAF03FD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B638-FBA6-4444-B2E0-A23FCF2C04A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63C6-ADED-402D-8ECE-DFEC0D51F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CFE9-8629-4ED3-9E00-F4932778F54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9ABD-FA97-4054-B929-DC22E3321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8C67-FFA3-4E73-84EF-8B5B6E5BE64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3E5B-7451-4D70-BE13-F60BFB7B6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7808-218C-4471-B646-2A0C0C5BDED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5E38-0612-47D0-86B2-0E8D1B673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981F-D0FD-41FF-A091-BF0235FFE59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8E96-054F-41E6-8237-2B05A6747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873D-088A-4136-AEDB-D453109953C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1F55-D895-4F16-84E0-F67790153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B766-EC28-4AA1-AE9B-5C7B7365EBD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E0AB-7C8B-4D5E-951F-AA37D3451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9E33-95B6-4CD4-A1D0-D9A906CE7AD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35C1-33C1-4B46-A434-C7228C01A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1CCB-7979-48FB-8916-976874381E9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4AE8-0E02-4B11-BB6E-2D54569AF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B2B4-4B11-4165-A92F-2F3ED2C5CDE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2518-FF3C-4CC4-9A15-4FBA26ADC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BBB7-6B33-4BCE-99EA-3197A2E28EE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29CD-5672-4C4B-A4BF-8FC895F5F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8.xml"/><Relationship Id="rId36" Type="http://schemas.openxmlformats.org/officeDocument/2006/relationships/slide" Target="slide38.xml"/><Relationship Id="rId37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ter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bo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xyge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trogen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p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miting f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louds are made of this form of wat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Liquid wat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imals get carbon by doing thi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Times New Roman"/>
              </a:rPr>
              <a:t>Eating other organisms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ants take this out of the air and use it and sunlight for photosynthesi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arbon dioxide is produced by animals during this proces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4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Carbon dioxide is used up during this process.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this stage of the water cycle water vapor turns into liquid water to form a clou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Phytoplankton live in the ocean and take carbon dioxide out of the air to use in this process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Animals use this gas up during cellular respiratio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Plants produce this gas during photosynthesis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Phytoplankton produce this gas during photosynthesis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Oxygen is used up by animals during this process.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ndens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xygen is produced by plants during this proces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Can plants and animals take nitrogen gas out of the air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Animals get nitrogen by doing this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Eating other organisms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ants get nitrogen from thi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The soil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is organism can take nitrogen gas out of the air and convert it into usable nitrog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Bacteria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n this stage of the water cycle water turns from a liquid to a ga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marL="305280" indent="-3052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process where nitrogen is converted from nitrogen gas into usable nitrogen is called thi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itrogen fix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All the zeebra living in a certain area make up this.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Nonliving things are classified as this type of factor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Abiotic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Living (or recently living) things are classified as this type of factor.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Bioti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325800" indent="-3258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e amount of fish in a pond would be considered this type of factor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Biotic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Evaporation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The amount of rain an area receives would be classified as this type of factor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biotic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this stage of the water cycle, water falls from the sk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recipit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312120" indent="-312120" algn="ctr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 this stage of the water cycle water evaporates from pla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Times New Roman"/>
              </a:rPr>
              <a:t>Transpiration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0:40:34Z</dcterms:created>
  <dc:creator>Eleanor M. Savko</dc:creator>
  <dc:description/>
  <dc:language>en-US</dc:language>
  <cp:lastModifiedBy>Caroline Roth</cp:lastModifiedBy>
  <dcterms:modified xsi:type="dcterms:W3CDTF">2010-10-05T11:08:40Z</dcterms:modified>
  <cp:revision>54</cp:revision>
  <dc:subject/>
  <dc:title>Blank Jeopardy</dc:title>
</cp:coreProperties>
</file>